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1985-2DBC-4665-940C-B7EDC4B02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72C1-FB20-4C8B-9697-CA6CA14FD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4B0E-7869-4935-8DA9-CDC77019B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DD3E-59C6-4CA5-B454-DBA478A1F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3EEF-8ED2-4F8F-AD46-0EF987A62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CF9C-C618-42E3-A82A-E1B7D9F13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9BA2-36B6-485D-A9E9-8A0E947C4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F2EC-0277-4B3D-B046-CE1BCA9C6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A6BD-2908-4653-8608-378F0D976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24AD-8732-4B98-B033-CEDF8C5A4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AEF1-A866-4CF3-AB10-7FB5310E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7D82-B1C1-4C20-9E81-AB390916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F67C2-2D2A-4BA2-B46A-400B1FB04E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floorplanner.com/" TargetMode="External"/><Relationship Id="rId2" Type="http://schemas.openxmlformats.org/officeDocument/2006/relationships/hyperlink" Target="http://floorplanner.com/" TargetMode="External"/><Relationship Id="rId3" Type="http://schemas.openxmlformats.org/officeDocument/2006/relationships/hyperlink" Target="http://floorplanner.com/" TargetMode="External"/><Relationship Id="rId4" Type="http://schemas.openxmlformats.org/officeDocument/2006/relationships/hyperlink" Target="http://floorplanner.com/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8920" y="1844640"/>
            <a:ext cx="6697800" cy="18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Η εφαρμογή που χρησιμοποιήσαμε είναι το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OR PLANNER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. Είναι μια εφαρμογή η οποία χρησιμεύει στην σχεδίαση  κτηρίων σε μορφή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και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Αρχικά πρέπει να φτιάξετε  έναν λογαριασμό  στην σελιδα  </a:t>
            </a:r>
            <a:r>
              <a:rPr b="0" lang="el-GR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</a:t>
            </a:r>
            <a:r>
              <a:rPr b="0" lang="el-GR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//</a:t>
            </a:r>
            <a:r>
              <a:rPr b="0" lang="el-GR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floorplanner.com</a:t>
            </a:r>
            <a:r>
              <a:rPr b="0" lang="el-GR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αφού σας δοθεί η έγκριση μπορείτε να αρχίσετε να φτιάχνετε το κτήριο  της αρεσκείας σας 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πορείτε να προσθέσετε τα έπιπλα και στην συνέχεια μπορείτε να βάλετε  πόρτες και τζάμι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Τέλος   σχεδιάστε  τον εξωτερικό  χώρο όπως σας αρέσει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Το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OR PLANNER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είναι πολύ  χρήσιμη εφαρμογή στο εκπαιδευτικό σύστημα . αφού μπορεί να χρησιμοποιηθεί στα μαθήματα που έχουν σχέση με το σχέδιο όπως το μάθημα επιλογής της β τάξης του γενικού λυκείου  και Τα εικαστικά που διδάσκονται  σε όλες τις τάξεις του γυμνασίου .Συμπερασματικά η εφαρμογή αυτή είναι πολύ  εύχρηστη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1T10:05:49Z</dcterms:created>
  <dc:creator>Μαθητής Β' Λυκείου</dc:creator>
  <dc:description/>
  <dc:language>en-US</dc:language>
  <cp:lastModifiedBy>Μαθητής Β' Λυκείου</cp:lastModifiedBy>
  <dcterms:modified xsi:type="dcterms:W3CDTF">2014-01-22T10:05:49Z</dcterms:modified>
  <cp:revision>2</cp:revision>
  <dc:subject/>
  <dc:title>Διαφάνεια 1</dc:title>
</cp:coreProperties>
</file>